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0.xml" ContentType="application/vnd.openxmlformats-officedocument.presentationml.comments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<Relationship Id="rId37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6-08-26T23:09:56.415000000" idx="1">
    <p:pos x="3010" y="1037"/>
    <p:text/>
  </p:cm>
</p:cmLst>
</file>

<file path=ppt/comments/comment13.xml><?xml version="1.0" encoding="utf-8"?>
<p:cmLst xmlns:p="http://schemas.openxmlformats.org/presentationml/2006/main">
  <p:cm authorId="0" dt="2016-08-26T23:10:01.543000000" idx="2">
    <p:pos x="4039" y="69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12A-4E94-4DB4-AACF-7E0673B8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1A6-713C-4A13-9266-4BB04115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2C8AB-B78E-43AB-9CAD-BBBE8A9D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7198D-8C6C-4F46-A26E-E1649F61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EF38E-6FA7-4E47-972C-935F240F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C4214-C93C-49B3-AB8F-B84487B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A52A8-40BC-47DA-B451-B30DB42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2F985-E574-4AEF-BDF1-D06E3FF1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3FC08-A17B-4DD8-BA03-BE9B922B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E2E72-4177-4CF3-82EE-1CB26C92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64E87-041D-4D5E-9528-0C2BA3BD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71B0A-702D-4293-A760-93954C63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A8F-BC67-4A01-ABF4-43B15893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045C2-B4FD-4E21-BB60-EF42D794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5AA04-4A85-4F5B-B28C-E078C617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AD97A-CD00-4AC8-8095-D8CBCF68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7847E-C996-49BD-AD2D-927C7EAB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9BECF-5827-4F3E-BD3B-452A5614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9FBFC-6FF0-4D5D-9B53-EA431B72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2594A-9471-4B53-A66E-39D73880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17E18-0054-4DAC-A21F-7B95606A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A9FF4-F1AA-44A6-A7E7-041FA651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AC7C5-B0D7-4DEE-A2DC-A0C0766F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C9D-6EE3-4DD9-880C-B3639FFB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A344C-71F7-4A01-B29B-839D66BA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D2123-70B6-4A71-85BA-EB5A5A7E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40032-7978-4BEA-83F4-A88F0DF7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C79A9-8C1C-4E41-91C4-CFAEBC7C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38C59-E2F2-4666-8F4E-213903F6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FF3F6-AE2B-4996-9DDE-82D769AE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798A2-92E6-4449-9FAB-20C4757F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718C7-C070-4ACD-8AC9-36B5555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72F3D-955B-438D-AE09-96F708D4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3C5B0-7343-4FC9-85A3-AAF54A81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1B5F-8D96-46AC-AA4D-5ADBFE46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62F5D-AD41-4B73-AF61-F968EC0D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44D8C-1EF7-45D2-B783-1687CFCF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50705-31A0-4099-B1D3-08CF59DD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16EC2-6D2A-4A1D-95BA-80C6B01F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3980A-B65B-486B-9589-97B501A3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51BAC-AF14-42C2-A601-E0F9207F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FC71B-8EF0-465D-AAAE-976C2DE9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680A0-7A26-464E-B53A-BD4E5431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ED68D-60DD-4653-8414-0D885661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69DDA-6537-4677-B28D-943A4B35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295A-BBA3-4516-9379-F916037E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235D3-1EB7-4625-BA4A-A7FB4429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B1769-8C70-4CDD-8A77-F72BBA75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85FE0-3D64-428D-8DE7-88B003C0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A41C2-A975-41D3-B931-59E3E44C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0BE36-D5BF-41C1-AC79-89EB1D8C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A605-0158-4051-A016-DFCDA48B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E71B-9DE5-45BD-B07A-E72042F7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1522-D973-400C-9A4F-E8F72250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1D0F-141A-43A6-A0A3-83FC3DE7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9DEF-4431-47C0-9B70-68D0F72C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D58-3063-4CA0-BE97-B3026CC2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03C8-F654-45EF-A2BB-C19D40E3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7C5C-978B-4BFA-80DF-DCAEF958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83DD-78BE-4E8E-A391-15F14BDC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A027-A91C-4ED5-9911-C05D816E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F610-7E1D-4E29-94C0-A735AA8A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EC60-DEAE-41BE-9FD1-9A974496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F77C-74C3-452F-9852-0403270F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FB04B-4BFB-4BB4-846A-F09AFF12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5A035-4886-4F70-A95B-5744787E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B4392-040A-428C-A99A-A4478503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BC5-B93A-44A9-A1D1-1922F51C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69B0-E325-4019-9AAF-FC28F18B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9203-4142-4B7C-B469-1876CE23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3290-D90F-408A-A224-5B3A6847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EA1A-6030-4D43-8043-F880BFC0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6076-61D2-47E3-A456-9CC76E11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42E6B-E1E0-4C57-A5F8-E73988B2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E25EB-EBBC-4B2B-8CFD-188B084F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73BBA-CFBD-44B1-82B5-21FBE1F9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7F639-BDD1-4D16-9889-180B38D1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9FEE0-81F6-4ABF-8945-2A5EC53D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863-D4E6-4300-AEC3-645EB791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B65E3-DD87-4203-B8D7-A0825A65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24F16-1C17-4B70-B43B-FE9B6241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09005-CCC4-4068-9630-F399688D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EFDFA-5AC0-4F5C-BBE9-5B8C79E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3979A-6CA4-47A1-8309-8290C123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DB41-E105-4C2C-9B23-60A37352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B0C7E-93FC-4250-A930-35A7E90D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9BD46-D6E1-4C1B-9390-3249DA97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22DEC-495C-4745-B3B7-0EB888DA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49F58-C95B-46C9-8360-89A891D1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0F8-5B94-4BDD-BE72-3E45C1FC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F2119-A223-41A0-AB3C-464B9CB1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E4413-7736-44FA-8C17-9256C4F0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C3686-C3DD-4C52-83EE-DE45DB0C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87BC0-4793-4836-BDE7-737A2FFE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58187-E51C-461C-BC7C-CAB6C54A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3C320-C333-4A87-A70F-2B1C34C7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5BBA-3B40-41CB-AFB8-D9ED2465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BCB4-F251-4A76-A515-9382E318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95064-8883-461D-B63C-056E5D28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58DEA-9A33-4FE0-87A4-091CED57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B8F-B6A3-4D36-9A09-055B9C7A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F30D7-7CB0-46D1-B58F-9A92E392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2CABD-9C61-41B1-BE78-713DA0D7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8484D-6D1B-47D7-91B8-2D79DC24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69D1D-037D-43FC-BA24-5E93E917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D015F-E4A6-4B34-9FCC-EACB1BAA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ABEBC-A09A-481A-8836-B748DD23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025BD-E4D3-49BB-93A1-53A223FA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A2F9E-B74B-4E09-AEF1-F531D67C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E6FBC-BCB7-40BA-B3BF-3DFA37E9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4B727-6234-4C2D-A2BC-2BBD6AFD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000-8A62-4450-8DCE-C0EC1ED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4E1D0-6D34-43E3-9F0C-EA213610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CF150-DCB9-4379-9C6D-10FC424E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BABA-4E3B-4743-8814-BED3A860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D1628-9419-4CE9-94AD-15A88C15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8F529-7D9A-40D9-8CB8-4457E420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DE18E-5275-47A8-A34D-EB8F4FD8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F282E-818F-41C7-AE00-A6E8C5E1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09A38-00B8-477F-95B4-0279F8E4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E8D0-F3E0-4A06-8B13-596546BD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3A8E6-A62F-45AE-AEEE-32D5D39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E05-231F-4A69-98C3-57ACDAE5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83E61-E873-41FC-92EB-49E0CD0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BD083-9E9A-4D7F-B159-69224905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8BDFA-ACE2-402C-97D0-920C744F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BE5A3-2B5E-4C99-8996-06A9519D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72453-1748-4E42-B1A9-25826B7D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ABB3C-4632-4F03-BD19-712743BC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A6284-24B9-4D76-A3AB-5F4B012D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F3F66-9845-4573-A5A8-4D4A804E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4B94D-5531-4114-B62B-B0914762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0FC42-0D58-4B6D-A435-80ADDC33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893-A1E2-45EE-AD18-2886711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308A2-4612-4F3C-88A8-57838941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97013-65B2-4DBA-8226-7BC5B862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088D1-6E32-40D7-81BE-17A69FDA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79689-23B3-41C0-9F48-1BBE473D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47C30-56EA-4219-98E5-BBB1E3B9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E7DDA-6116-480E-BA69-AE7F9323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AE08D-9E33-4890-B211-78C6C253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371F3-907E-4CD6-B36E-7D6B87D0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E6B8A-C7C3-47ED-B3D6-8DF5D487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70870-33F8-45D5-8C4E-320912D4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788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789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789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789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789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789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789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06D4-B738-4133-8DC7-0E91D711596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8E2E-6160-48A3-BB21-9A6944037A7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191D-AF81-43BB-A74B-5B05BBFB3F9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078E-257D-4410-8B1E-849806ADC32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891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891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891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891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891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891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891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0885-8926-4540-BD29-6F4D0563397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BF12-B115-4E05-ACE4-9300B592693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6A90-2BCF-49B8-A5C8-5E3C5C3B66A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46A0-94BB-4C2A-A5C3-16F47E111C7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6A28-9E10-4263-929B-99F109A8835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4097-A540-4162-9016-4577176BE83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BF7B-19A0-4AE3-B175-0245E471DB5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7471-9C99-4B43-81C8-5275981E508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476360" y="134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11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大还是小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508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10" name="Picture 2" descr="http://www.taopic.com/uploads/allimg/110310/341-11031012591039.jpg"/>
          <p:cNvPicPr/>
          <p:nvPr/>
        </p:nvPicPr>
        <p:blipFill>
          <a:blip r:embed="rId1"/>
          <a:stretch/>
        </p:blipFill>
        <p:spPr>
          <a:xfrm>
            <a:off x="1547640" y="2349360"/>
            <a:ext cx="6072480" cy="34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己系鞋带的时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9cc6bd964c8e92af"/>
          <p:cNvPicPr/>
          <p:nvPr/>
        </p:nvPicPr>
        <p:blipFill>
          <a:blip r:embed="rId1"/>
          <a:stretch/>
        </p:blipFill>
        <p:spPr>
          <a:xfrm>
            <a:off x="2627280" y="2349360"/>
            <a:ext cx="4248360" cy="2951280"/>
          </a:xfrm>
          <a:prstGeom prst="rect">
            <a:avLst/>
          </a:prstGeom>
          <a:ln w="0">
            <a:noFill/>
          </a:ln>
        </p:spPr>
      </p:pic>
      <p:sp>
        <p:nvSpPr>
          <p:cNvPr id="576" name="矩形 23556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照顾小妹妹的时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5" descr="7d969522b1cea0df"/>
          <p:cNvPicPr/>
          <p:nvPr/>
        </p:nvPicPr>
        <p:blipFill>
          <a:blip r:embed="rId1"/>
          <a:stretch/>
        </p:blipFill>
        <p:spPr>
          <a:xfrm>
            <a:off x="1692360" y="2852640"/>
            <a:ext cx="2409840" cy="1809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7" descr="f9a6ca9611273e90"/>
          <p:cNvPicPr/>
          <p:nvPr/>
        </p:nvPicPr>
        <p:blipFill>
          <a:blip r:embed="rId2"/>
          <a:stretch/>
        </p:blipFill>
        <p:spPr>
          <a:xfrm>
            <a:off x="4500720" y="2276640"/>
            <a:ext cx="296208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够不着按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c163b4b1dd9e569b"/>
          <p:cNvPicPr/>
          <p:nvPr/>
        </p:nvPicPr>
        <p:blipFill>
          <a:blip r:embed="rId1"/>
          <a:stretch/>
        </p:blipFill>
        <p:spPr>
          <a:xfrm>
            <a:off x="2411280" y="2565360"/>
            <a:ext cx="4464360" cy="3167280"/>
          </a:xfrm>
          <a:prstGeom prst="rect">
            <a:avLst/>
          </a:prstGeom>
          <a:ln w="0">
            <a:noFill/>
          </a:ln>
        </p:spPr>
      </p:pic>
      <p:sp>
        <p:nvSpPr>
          <p:cNvPr id="583" name="矩形 25603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听到雷声喊妈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865ba412620f3c22"/>
          <p:cNvPicPr/>
          <p:nvPr/>
        </p:nvPicPr>
        <p:blipFill>
          <a:blip r:embed="rId1"/>
          <a:stretch/>
        </p:blipFill>
        <p:spPr>
          <a:xfrm>
            <a:off x="1763640" y="2565360"/>
            <a:ext cx="5329440" cy="2916360"/>
          </a:xfrm>
          <a:prstGeom prst="rect">
            <a:avLst/>
          </a:prstGeom>
          <a:ln w="0">
            <a:noFill/>
          </a:ln>
        </p:spPr>
      </p:pic>
      <p:sp>
        <p:nvSpPr>
          <p:cNvPr id="586" name="矩形 26627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玩具小熊陪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c68db0215bdd7b87"/>
          <p:cNvPicPr/>
          <p:nvPr/>
        </p:nvPicPr>
        <p:blipFill>
          <a:blip r:embed="rId1"/>
          <a:stretch/>
        </p:blipFill>
        <p:spPr>
          <a:xfrm>
            <a:off x="3132000" y="3213000"/>
            <a:ext cx="221940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WordArt 4"/>
          <p:cNvSpPr txBox="1"/>
          <p:nvPr/>
        </p:nvSpPr>
        <p:spPr>
          <a:xfrm>
            <a:off x="1979640" y="2565360"/>
            <a:ext cx="374472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听老师范读课文</a:t>
            </a:r>
            <a:endParaRPr b="0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59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95" name="Picture 2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96" name="TextBox 2"/>
          <p:cNvSpPr/>
          <p:nvPr/>
        </p:nvSpPr>
        <p:spPr>
          <a:xfrm>
            <a:off x="571680" y="3114720"/>
            <a:ext cx="79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大还是小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左大括号 3"/>
          <p:cNvSpPr/>
          <p:nvPr/>
        </p:nvSpPr>
        <p:spPr>
          <a:xfrm>
            <a:off x="1549440" y="2565360"/>
            <a:ext cx="358560" cy="33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3384720"/>
              <a:gd name="textAreaBottom" fmla="*/ 33757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TextBox 4"/>
          <p:cNvSpPr/>
          <p:nvPr/>
        </p:nvSpPr>
        <p:spPr>
          <a:xfrm>
            <a:off x="1908000" y="256860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己系鞋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TextBox 10"/>
          <p:cNvSpPr/>
          <p:nvPr/>
        </p:nvSpPr>
        <p:spPr>
          <a:xfrm>
            <a:off x="1906560" y="330192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照顾小妹妹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TextBox 12"/>
          <p:cNvSpPr/>
          <p:nvPr/>
        </p:nvSpPr>
        <p:spPr>
          <a:xfrm>
            <a:off x="1906560" y="400680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够不着按钮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Box 16"/>
          <p:cNvSpPr/>
          <p:nvPr/>
        </p:nvSpPr>
        <p:spPr>
          <a:xfrm>
            <a:off x="1893960" y="468792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听到雷声喊妈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TextBox 13"/>
          <p:cNvSpPr/>
          <p:nvPr/>
        </p:nvSpPr>
        <p:spPr>
          <a:xfrm>
            <a:off x="1906560" y="5364000"/>
            <a:ext cx="42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玩具小熊陪着睡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0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0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6"/>
          <p:cNvSpPr/>
          <p:nvPr/>
        </p:nvSpPr>
        <p:spPr>
          <a:xfrm>
            <a:off x="1260360" y="242424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996633"/>
                </a:solidFill>
                <a:uFillTx/>
                <a:latin typeface="华文楷体"/>
                <a:ea typeface="华文楷体"/>
              </a:rPr>
              <a:t>　　写了很多自己能做到和不能做到的事情，期待自己快快长大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全文有六个自然段，写了自己能做到和不能做到的事情，很有层次，我们也要学习这样写作。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1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15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3"/>
          <p:cNvSpPr/>
          <p:nvPr/>
        </p:nvSpPr>
        <p:spPr>
          <a:xfrm>
            <a:off x="2908080" y="1147680"/>
            <a:ext cx="3594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我想快快长大（原创儿童歌曲歌词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作者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 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：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 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张子龙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爸爸妈妈一个家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爷爷奶奶一个家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爸爸妈妈住城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爷爷奶奶住乡下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我和爷爷奶奶住惯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走到哪里都割舍不下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我爱吃奶奶熬的小米粥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还爱吃爷爷烤的热地瓜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618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20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2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6"/>
          <p:cNvSpPr/>
          <p:nvPr/>
        </p:nvSpPr>
        <p:spPr>
          <a:xfrm>
            <a:off x="46836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99"/>
                </a:solidFill>
                <a:uFillTx/>
                <a:latin typeface="Calibri"/>
                <a:ea typeface="幼圆"/>
              </a:rPr>
              <a:t>怎样系鞋带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4" name="Picture 5" descr="0a52e3f47a8228bf62ed72e6"/>
          <p:cNvPicPr/>
          <p:nvPr/>
        </p:nvPicPr>
        <p:blipFill>
          <a:blip r:embed="rId2"/>
          <a:stretch/>
        </p:blipFill>
        <p:spPr>
          <a:xfrm>
            <a:off x="498600" y="3141720"/>
            <a:ext cx="3255840" cy="25732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0a52e3f47a8228bf62ed72e6"/>
          <p:cNvPicPr/>
          <p:nvPr/>
        </p:nvPicPr>
        <p:blipFill>
          <a:blip r:embed="rId3"/>
          <a:stretch/>
        </p:blipFill>
        <p:spPr>
          <a:xfrm>
            <a:off x="4416480" y="3279600"/>
            <a:ext cx="364968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6"/>
          <p:cNvSpPr/>
          <p:nvPr/>
        </p:nvSpPr>
        <p:spPr>
          <a:xfrm>
            <a:off x="971640" y="2227320"/>
            <a:ext cx="74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　　你觉得自己大还是小呢？让我们都不挑食锻炼身体团结同学，做一个快快长大的人吧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2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2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0" y="2413440"/>
            <a:ext cx="93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              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3211920" y="292428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把课文朗读给你的同桌听   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630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32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7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18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19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0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521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23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uFillTx/>
                <a:latin typeface="宋体"/>
              </a:rPr>
              <a:t>认一认</a:t>
            </a:r>
            <a:endParaRPr b="0" i="1" lang="en-US" sz="2400" spc="-1" strike="noStrike" u="sng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时候   觉得    已经    很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穿衣服   照镜子  玩具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快点    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7410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4"/>
          <p:cNvSpPr txBox="1"/>
          <p:nvPr/>
        </p:nvSpPr>
        <p:spPr>
          <a:xfrm>
            <a:off x="1403280" y="2919240"/>
            <a:ext cx="5472360" cy="14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楷体_GB2312"/>
              </a:rPr>
              <a:t>写一写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楷体_GB2312"/>
              <a:ea typeface="楷体_GB2312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28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29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31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32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34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35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36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z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ì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自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41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42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43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44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45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47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8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49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327672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j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ǐ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己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矩形 20490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55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56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58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59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60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61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2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63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chuáng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床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568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5"/>
          <p:cNvSpPr/>
          <p:nvPr/>
        </p:nvSpPr>
        <p:spPr>
          <a:xfrm>
            <a:off x="324000" y="1413000"/>
            <a:ext cx="882000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认真自读课文，用心          思考下面问题：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1</a:t>
            </a: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、你觉得自己大还是小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2</a:t>
            </a: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、什么情况下小主人公觉得自己大，什么情况下觉得自己小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矩形 22532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>www.xkb1.com</dc:creator>
  <dc:description>www.xkb1.com</dc:description>
  <cp:keywords>www.xkb1.com</cp:keywords>
  <dc:language>en-US</dc:language>
  <cp:lastModifiedBy>万润仪器贸易公司</cp:lastModifiedBy>
  <dcterms:modified xsi:type="dcterms:W3CDTF">2020-08-24T01:54:57Z</dcterms:modified>
  <cp:revision>249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